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C3D-F879-4604-9E8C-1A998BD9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665A-62F6-49C9-8E84-803F5D20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10E-1A7E-477D-8257-15AE2ECD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6EE-952F-4D0A-8A64-F5DCD32E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421-B99A-49AA-8698-8550D8C8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117-03A4-45C5-BC43-5F6C6160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951-34BE-45C9-BBAB-89D91218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422-1560-4F00-8E82-76CCC081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FDF-2610-4D0B-A122-708AAEF4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227-0A99-4C81-A599-D8FEB1C0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F70-36CF-46B0-BB0C-8A2569BD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D61-C1B1-4562-B39E-2391BE3B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9762-432E-4974-A15A-6628E0F4A68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55 Plášť svoj noc, keď prestie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lášť svoj noc, keď prestier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lnko spať sa uber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arosť, prácu odklad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u Bohu chválu 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ba, Otče na neb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ša moja veleb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pokoja tvojho dar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za radosť, práce zdar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 mi, prosím z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pustiť hriech, slab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 túto tmavú noc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ma chráni tvoja moc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skončí žitia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bostrie ma smrt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m, že aj mňa v pravý č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kriesi mocný Pánov hla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9:39:55Z</dcterms:modified>
  <cp:revision>58</cp:revision>
  <dc:subject/>
  <dc:title>Je veľký náš Pán, on slávy je Kráľ Nech do všetkých strán  spev vrúcnych znie chvál.</dc:title>
</cp:coreProperties>
</file>